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9EA9E-B636-4D48-B956-B3A7AE7A5F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75374-24B5-4E80-A952-2E4C76136A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6DA7F-E426-40EC-84F7-745F9ADF16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D2EED-84C9-4678-B2A0-0CB320F91C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D553D-2A05-41EA-B8C6-30E7D7B626A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25B8D-83BE-4473-8F8B-2F12CBA2AB9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29F24-FDEF-4C07-B782-ABAFF44E4F9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4027A-DFAF-4991-B0F9-19963090784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256F5-C9A6-4EF8-8735-80506D911D1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723960" y="9144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0FD23-B2F6-4C66-90D7-45F69F4DDDC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CB367-168E-4563-9A4E-739F12CC04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3673A-8ABE-4DFE-AF7A-4BA925AAD2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2C06F-D7F1-4B2B-A2B2-AA24777E99B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B06D5-E004-4662-A17B-822861DC662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D27CB-CF94-41CB-B87A-928AD67A7B9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CE0CF-07C6-43A1-8FD3-6596E333648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F4036-2451-463D-82C7-2477B77C84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275E0-D162-48AC-915B-A081CCA63F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51435-7055-4C65-9676-087FEF06F9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9AF7A-122C-4B04-8378-ACE0F242D5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23960" y="9144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CA235-49AF-4DEF-BA20-6ABB3C83AE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259C5-D1D8-45A2-85A2-FC3F47E0A9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F03AC-BBC6-4AA8-8981-910DD63A6C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75D39-ED6A-480F-9AD0-1F189B9442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348680" y="6248520"/>
            <a:ext cx="312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92BE0-6819-4C33-8438-BB55B0F435A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7386120" y="6248520"/>
            <a:ext cx="312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3B604-7682-4B8E-A9CC-6F5C2115C8B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shornik@bus.ucf.edu" TargetMode="External"/><Relationship Id="rId3" Type="http://schemas.openxmlformats.org/officeDocument/2006/relationships/hyperlink" Target="http://acg6415.wikispaces.com/" TargetMode="External"/><Relationship Id="rId4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kipwhite.com/" TargetMode="External"/><Relationship Id="rId3" Type="http://schemas.openxmlformats.org/officeDocument/2006/relationships/hyperlink" Target="http://yourdon.com/strucanalysis/wiki/index.php?title=Introduction" TargetMode="External"/><Relationship Id="rId4" Type="http://schemas.openxmlformats.org/officeDocument/2006/relationships/hyperlink" Target="http://www.gliffy.com/" TargetMode="External"/><Relationship Id="rId5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99840" y="266400"/>
            <a:ext cx="6095880" cy="3136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CG 641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682280" y="4076640"/>
            <a:ext cx="5861160" cy="27813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ced Accounting Informa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ll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urse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will be expected to prepare models of business processes, specificall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Flow Diagra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w Chart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in Understanding of XBR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B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BL and XBRL-G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arily, to become consumers of information related to new technolog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1219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kiSp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9000"/>
          </a:bodyPr>
          <a:p>
            <a:pPr marL="37872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 Invitation or Click “Join”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in if you haven’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e-mail for Inv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mail address comes from e-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your pro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7072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a Picture (nice but not requir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2324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your e-community pi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7872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aborative Web 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Add material to any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Edit material already posted to a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Delete material posted to a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Create a new page with new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72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7072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Pages, Podcasts, Video, Audio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ki Pages to Up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unting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Mo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B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2396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liver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SAD Wiki chapter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ed </a:t>
            </a:r>
            <a:r>
              <a:rPr b="0" lang="en-US" sz="3200" spc="-1" strike="noStrike" u="sng">
                <a:solidFill>
                  <a:srgbClr val="0033cc"/>
                </a:solidFill>
                <a:uFillTx/>
                <a:latin typeface="Arial"/>
              </a:rPr>
              <a:t>course agre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 September 3rd (next cla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o Exp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the concepts of 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s open the door. You enter by yourself”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old Chinese prover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ing the concepts (Group Ca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e have to learn to do, we learn by doing”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ristot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8320" y="1981080"/>
            <a:ext cx="3822480" cy="32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art 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cumenting 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FD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lowch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art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B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at is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asic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llabus Highl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. Steven Horn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il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hornik@bus.ucf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rse Webpage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acg6415.wikispaces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ice Hours: Tuesday a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rsday 4:30-6:00; Tuesday and by appoin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ice: BA1 4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 (Yahoo): shorn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use Meebo Widget in Wikisp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23960" y="1294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xt Bo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ccountants Guide to XBRL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ed., by Clinton E Wh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only at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www.skipwhite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Systems Analysis and Design Wi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2 and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A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Gliff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ccount – Web Based Modeling t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de Compon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 1 (Data Models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 2 (XBRL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iness Process Model (Group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Assignment (4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ion (Wiki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Po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ding Sc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A 4.00 100-9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A- 3.75 92-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B+ 3.25 89-8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B 3.00 85-8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B- 2.75 82-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C+ 2.25 79-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C 2.00 75-7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48320" y="2743200"/>
            <a:ext cx="3822480" cy="19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lnSpc>
                <a:spcPct val="90000"/>
              </a:lnSpc>
              <a:spcBef>
                <a:spcPts val="53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C- 1.75 72-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53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D+ 1.25 69-6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53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D 1.00 65-6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53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D- 0.75 62-6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53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F 0.00 &lt;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graded Assignments (UGH’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permitting we will do these in-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likely you’re group will do them in class, and we will ro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icip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cture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In Class, Ask Questions, New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W /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In Class, Prepared to discu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ity of p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ch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-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 solving / model buil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hornik</dc:creator>
  <dc:description/>
  <dc:language>en-US</dc:language>
  <cp:lastModifiedBy/>
  <cp:revision>0</cp:revision>
  <dc:subject/>
  <dc:title>ACG 5405 Intro</dc:title>
</cp:coreProperties>
</file>